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60F-9D06-4D1B-94B3-101A664B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911-CC6E-4522-9BD1-E23D7DE5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48A-8DF7-4C73-A497-DE621277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D36-63CE-4FF2-844E-303FF5F7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055-6E49-43B9-9370-889329FA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2CC-04BA-47A1-8C9B-B22F9EAA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F74-39D9-4BBF-BBDD-2424B153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784-34F6-4C11-82F2-B1E38187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22B-9CC3-4A6B-89CD-EC3D678A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50D-31E0-453D-8B80-6062824E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5B3-23F6-4458-976E-F1E77E9C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285-0310-4891-BD64-D837FBD6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A9A7F-404A-417D-9770-48A969A24C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SW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73836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Biagio Espos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city of Botswana is Gabo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cation of Botswana is in souther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swana has river like the Okavango river, Molopo river, Botletle river, Nosob river, and Chob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swana is near two oceans,  the south Atlantic ocean, and the south Pacific oce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816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Botswana has a subtropical cli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 7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imo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nguage spoken in Botswana is English, Setswana, Kalanga, and Sekgal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swana's economy is develo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16200" y="2743200"/>
            <a:ext cx="5511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swana's type of government is republic, parliamentary democ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s of natural resour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m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a 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fopleas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yclo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traveldoc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CS_user</dc:creator>
  <dc:description/>
  <dc:language>en-US</dc:language>
  <cp:lastModifiedBy>LCS_user</cp:lastModifiedBy>
  <dcterms:modified xsi:type="dcterms:W3CDTF">2008-10-27T12:42:05Z</dcterms:modified>
  <cp:revision>1</cp:revision>
  <dc:subject/>
  <dc:title>Slide 1</dc:title>
</cp:coreProperties>
</file>